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2BB4-7589-494A-BBA4-48D0D7A629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2A14-1393-4513-B6D7-519310DCB1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B94A-F2D4-4D40-B0DA-5570B69271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28A1-E466-4BEE-92FC-E44F324741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F066-E7E1-4BB7-BD55-CEDA76EC53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6C7A-5237-4E28-8514-A998BD7364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2EA1-30C3-4AF0-B687-A442902884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89000" y="69372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3769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BBB6-553D-4206-A308-811CFBD62B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ECDA-759C-41FF-8180-6E32DEF959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89000" y="69372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3769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890B-BAC5-4CB2-A396-CE90DF8D95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6C3B-3786-4E89-8DC6-864975CBDE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7548-AFF5-4C5C-8EC3-412BA33B67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089000" y="69372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3769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1AAD-55C4-4E7B-A8C8-2411521D46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E954-566E-466D-BCE9-4FCD9E2D4A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57A-3383-4490-A279-DD44A414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149-3C6E-4617-9FC4-6519685B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9F3-8CC0-4B17-8634-0163706A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B71-2332-41D8-8351-A736145E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2355-8C44-480C-BA5A-9A021585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9B35-2733-41AA-9737-9700C3C1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86AB-D8E9-4472-84C0-62505D11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CFB2-4A05-4330-91AF-B2D37383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FFCD-808E-4EC6-B240-72CD4E2B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B942-DF11-48D0-85ED-7D68807C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1CC2-AB26-4278-9FFB-F63E9B4C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9E9-85AE-4D1D-B65F-95AA3479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5C78-E3B5-45CC-A82B-DD76A9B2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12C9-AB57-4BF9-8FF6-80A3C077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A2D4-B5AD-44D5-9230-5BCC0419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7C9F-2EBA-4EF0-A80E-CDD2E63E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E299-BC0F-4DCE-9B49-F79DF075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E7C-614B-4142-A008-1B461378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B9F-E178-4DFE-931A-D52EC608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35D-3B0E-4658-B01D-22F8A339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CE7-0B14-4C4E-9F65-BDBAC2FB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475-DAAE-4E43-9E90-7FA3DE78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007-C27C-48DA-9201-7BAF5A23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B89-B5B9-409D-BC9A-784488FB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6364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B6B1-921A-4819-9981-A48858E9D4A7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Logotipo 1 tinta baja RGB"/>
          <p:cNvPicPr/>
          <p:nvPr/>
        </p:nvPicPr>
        <p:blipFill>
          <a:blip r:embed="rId3"/>
          <a:stretch/>
        </p:blipFill>
        <p:spPr>
          <a:xfrm>
            <a:off x="0" y="6167520"/>
            <a:ext cx="101592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E6C0-E288-4AC9-A71F-FAA757240351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9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2070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7"/>
          <p:cNvSpPr/>
          <p:nvPr/>
        </p:nvSpPr>
        <p:spPr>
          <a:xfrm>
            <a:off x="0" y="1371600"/>
            <a:ext cx="399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6600"/>
                </a:solidFill>
                <a:latin typeface="Tahoma"/>
              </a:rPr>
              <a:t>Plan CEI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6600"/>
                </a:solidFill>
                <a:latin typeface="Tahoma"/>
              </a:rPr>
              <a:t>One Laptop per Child and per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9"/>
          <p:cNvSpPr/>
          <p:nvPr/>
        </p:nvSpPr>
        <p:spPr>
          <a:xfrm>
            <a:off x="0" y="60357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iguel Brechner Kigali June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2" descr="Logotipo_PLAN_CEIBAL_CMYK_alta"/>
          <p:cNvPicPr/>
          <p:nvPr/>
        </p:nvPicPr>
        <p:blipFill>
          <a:blip r:embed="rId2"/>
          <a:stretch/>
        </p:blipFill>
        <p:spPr>
          <a:xfrm>
            <a:off x="0" y="0"/>
            <a:ext cx="100800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91064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Homes with computers will grow by 220.000 (20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Half ot them belong to the poorest 20% of th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chool attendance has grown, and class repetition has diminished very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High motivation of teacher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arents participate actively in the School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pportunities for the development in music, video, photograpy, programming, that without Ceibal would be almost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957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s are shown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al Opportunities for the future. New individual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ho should implement it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urage is needed to do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ery year we dont do it, thousands of kids loose their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f we dont do it know, when should we do it??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27"/>
          <p:cNvSpPr/>
          <p:nvPr/>
        </p:nvSpPr>
        <p:spPr>
          <a:xfrm>
            <a:off x="179280" y="1268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in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28"/>
          <p:cNvSpPr/>
          <p:nvPr/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SC00460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24000" y="2462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Imag"/>
          <p:cNvPicPr/>
          <p:nvPr/>
        </p:nvPicPr>
        <p:blipFill>
          <a:blip r:embed="rId1"/>
          <a:stretch/>
        </p:blipFill>
        <p:spPr>
          <a:xfrm>
            <a:off x="250920" y="1268280"/>
            <a:ext cx="2017440" cy="1516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Imag"/>
          <p:cNvPicPr/>
          <p:nvPr/>
        </p:nvPicPr>
        <p:blipFill>
          <a:blip r:embed="rId2"/>
          <a:stretch/>
        </p:blipFill>
        <p:spPr>
          <a:xfrm>
            <a:off x="2644920" y="1268280"/>
            <a:ext cx="1998360" cy="1500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100_6783_DCE"/>
          <p:cNvPicPr/>
          <p:nvPr/>
        </p:nvPicPr>
        <p:blipFill>
          <a:blip r:embed="rId3"/>
          <a:stretch/>
        </p:blipFill>
        <p:spPr>
          <a:xfrm>
            <a:off x="6877080" y="4645080"/>
            <a:ext cx="2124000" cy="159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100_6781_DCE"/>
          <p:cNvPicPr/>
          <p:nvPr/>
        </p:nvPicPr>
        <p:blipFill>
          <a:blip r:embed="rId4"/>
          <a:stretch/>
        </p:blipFill>
        <p:spPr>
          <a:xfrm>
            <a:off x="250920" y="292428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100_6745_DCE"/>
          <p:cNvPicPr/>
          <p:nvPr/>
        </p:nvPicPr>
        <p:blipFill>
          <a:blip r:embed="rId5"/>
          <a:stretch/>
        </p:blipFill>
        <p:spPr>
          <a:xfrm>
            <a:off x="250920" y="4599000"/>
            <a:ext cx="2017440" cy="1514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100_6747_DCE"/>
          <p:cNvPicPr/>
          <p:nvPr/>
        </p:nvPicPr>
        <p:blipFill>
          <a:blip r:embed="rId6"/>
          <a:stretch/>
        </p:blipFill>
        <p:spPr>
          <a:xfrm>
            <a:off x="4788000" y="1322280"/>
            <a:ext cx="1942920" cy="145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100_6749_DCE"/>
          <p:cNvPicPr/>
          <p:nvPr/>
        </p:nvPicPr>
        <p:blipFill>
          <a:blip r:embed="rId7"/>
          <a:stretch/>
        </p:blipFill>
        <p:spPr>
          <a:xfrm>
            <a:off x="2627280" y="292428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100_6693"/>
          <p:cNvPicPr/>
          <p:nvPr/>
        </p:nvPicPr>
        <p:blipFill>
          <a:blip r:embed="rId8"/>
          <a:stretch/>
        </p:blipFill>
        <p:spPr>
          <a:xfrm>
            <a:off x="2484360" y="459900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100_6776_DCE"/>
          <p:cNvPicPr/>
          <p:nvPr/>
        </p:nvPicPr>
        <p:blipFill>
          <a:blip r:embed="rId9"/>
          <a:stretch/>
        </p:blipFill>
        <p:spPr>
          <a:xfrm>
            <a:off x="6877080" y="1268280"/>
            <a:ext cx="2087640" cy="15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100_6782_DCE"/>
          <p:cNvPicPr/>
          <p:nvPr/>
        </p:nvPicPr>
        <p:blipFill>
          <a:blip r:embed="rId10"/>
          <a:stretch/>
        </p:blipFill>
        <p:spPr>
          <a:xfrm>
            <a:off x="4788000" y="2924280"/>
            <a:ext cx="2017440" cy="151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100_6759_DCE"/>
          <p:cNvPicPr/>
          <p:nvPr/>
        </p:nvPicPr>
        <p:blipFill>
          <a:blip r:embed="rId11"/>
          <a:stretch/>
        </p:blipFill>
        <p:spPr>
          <a:xfrm>
            <a:off x="7093080" y="299736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100_6680"/>
          <p:cNvPicPr/>
          <p:nvPr/>
        </p:nvPicPr>
        <p:blipFill>
          <a:blip r:embed="rId12"/>
          <a:stretch/>
        </p:blipFill>
        <p:spPr>
          <a:xfrm>
            <a:off x="4643280" y="4545000"/>
            <a:ext cx="2160720" cy="1620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Imag"/>
          <p:cNvPicPr/>
          <p:nvPr/>
        </p:nvPicPr>
        <p:blipFill>
          <a:blip r:embed="rId1"/>
          <a:stretch/>
        </p:blipFill>
        <p:spPr>
          <a:xfrm>
            <a:off x="6858000" y="5181480"/>
            <a:ext cx="1908000" cy="1392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7632720" cy="28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marL="29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he Thre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If I am not for myself, who will be for 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If I am only for myself, what am 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If not now, when?"</a:t>
            </a:r>
            <a:r>
              <a:rPr b="0" lang="en-US" sz="2400" spc="-1" strike="noStrike" u="sng" baseline="30000">
                <a:solidFill>
                  <a:srgbClr val="e5d093"/>
                </a:solidFill>
                <a:uFillTx/>
                <a:latin typeface="-webkit-sans-serif"/>
                <a:hlinkClick r:id="rId2" action="ppaction://hlinksldjump"/>
              </a:rPr>
              <a:t>[2]</a:t>
            </a: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 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abbi Hillel , year 1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When will our societies be prepared for any school child of today to be an Engineer or Doctor in 2029, and a President in 20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consejo de ministros"/>
          <p:cNvPicPr/>
          <p:nvPr/>
        </p:nvPicPr>
        <p:blipFill>
          <a:blip r:embed="rId3"/>
          <a:stretch/>
        </p:blipFill>
        <p:spPr>
          <a:xfrm>
            <a:off x="0" y="5334120"/>
            <a:ext cx="216072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CEI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7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ta of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pulation 3.3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ze 173.000 K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vidided in 19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80% Urban 20%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ry strong Public School (85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fabetization 97%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tal number of benefici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children and teachers)   35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atin_America"/>
          <p:cNvPicPr/>
          <p:nvPr/>
        </p:nvPicPr>
        <p:blipFill>
          <a:blip r:embed="rId1"/>
          <a:stretch/>
        </p:blipFill>
        <p:spPr>
          <a:xfrm>
            <a:off x="6202440" y="3284640"/>
            <a:ext cx="294156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Imag"/>
          <p:cNvPicPr/>
          <p:nvPr/>
        </p:nvPicPr>
        <p:blipFill>
          <a:blip r:embed="rId1"/>
          <a:stretch/>
        </p:blipFill>
        <p:spPr>
          <a:xfrm>
            <a:off x="7236000" y="5465880"/>
            <a:ext cx="1908000" cy="139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7632720" cy="28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marL="31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llars of Plan Cei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quality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All Children &amp;Teachers in Public School get a Lap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ew tools for learning , new contents, new forms of education. Teachers teach and learn, Kids teach and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chnology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Wireless Internet Connection in Schools, Public Places and many homes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mitment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trong leadership of President Vazquez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We will not only reduce the gap of the Digital Divide, but more important we need to eliminate the Knowledge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onsejo de ministros"/>
          <p:cNvPicPr/>
          <p:nvPr/>
        </p:nvPicPr>
        <p:blipFill>
          <a:blip r:embed="rId2"/>
          <a:stretch/>
        </p:blipFill>
        <p:spPr>
          <a:xfrm>
            <a:off x="0" y="5538960"/>
            <a:ext cx="216072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789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Mai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sur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qual access to information and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the learning and education opportun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hiev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ocial incl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vest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in human capital to position Uruguay as a leader i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ustainability after 2009 (0.1% GN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untr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nd people empowern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DSC04304"/>
          <p:cNvPicPr/>
          <p:nvPr/>
        </p:nvPicPr>
        <p:blipFill>
          <a:blip r:embed="rId1"/>
          <a:srcRect l="4648" t="27283" r="0" b="0"/>
          <a:stretch/>
        </p:blipFill>
        <p:spPr>
          <a:xfrm>
            <a:off x="0" y="5376960"/>
            <a:ext cx="2592360" cy="1481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100_6759_DCE"/>
          <p:cNvPicPr/>
          <p:nvPr/>
        </p:nvPicPr>
        <p:blipFill>
          <a:blip r:embed="rId2"/>
          <a:stretch/>
        </p:blipFill>
        <p:spPr>
          <a:xfrm>
            <a:off x="7164360" y="5372280"/>
            <a:ext cx="1979640" cy="148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 2008-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ilot May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ivered until today 225.000 laptops, 1.250 servers, connectiity 8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 be delivered 2009, 165.000 laptops, 1000 severs, full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nectivity 300 mts maximum walk for internet (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97160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0920" y="1125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2120" indent="0"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allel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chnology Indepen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ion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acher Training and delivery of noteb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rver and School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ildre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ent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ivery of notebooks to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arranty and Tech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2120" indent="0">
              <a:spcBef>
                <a:spcPts val="9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2120" indent="0"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2120" indent="0"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212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212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100_6759_DCE"/>
          <p:cNvPicPr/>
          <p:nvPr/>
        </p:nvPicPr>
        <p:blipFill>
          <a:blip r:embed="rId1"/>
          <a:stretch/>
        </p:blipFill>
        <p:spPr>
          <a:xfrm>
            <a:off x="7093080" y="5300640"/>
            <a:ext cx="1871640" cy="14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957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ing and training teachers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ildren teach the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ents get involved and want to be tr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achers resistance is overcome once 1:1 st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chool is centre of life in t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llaboration in all aspects is natural in IT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oluntary work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w learning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acher motivation empowers project and n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ays to teach flour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27"/>
          <p:cNvSpPr/>
          <p:nvPr/>
        </p:nvSpPr>
        <p:spPr>
          <a:xfrm>
            <a:off x="179280" y="1268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have we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8"/>
          <p:cNvSpPr/>
          <p:nvPr/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029" descr="cardal_1_tcp_ul"/>
          <p:cNvPicPr/>
          <p:nvPr/>
        </p:nvPicPr>
        <p:blipFill>
          <a:blip r:embed="rId1"/>
          <a:srcRect l="15318" t="2291" r="13140" b="7273"/>
          <a:stretch/>
        </p:blipFill>
        <p:spPr>
          <a:xfrm>
            <a:off x="6156360" y="4508640"/>
            <a:ext cx="2663640" cy="21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Children an Par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 for search of information at school and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Pictures , Video , Music &amp;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of children interaction using C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 watching by children diminis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of the Laptop in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2:56:46Z</dcterms:created>
  <dc:creator>sgonzalez</dc:creator>
  <dc:description/>
  <cp:keywords/>
  <dc:language>en-US</dc:language>
  <cp:lastModifiedBy> </cp:lastModifiedBy>
  <dcterms:modified xsi:type="dcterms:W3CDTF">2009-07-06T16:44:48Z</dcterms:modified>
  <cp:revision>25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3082</vt:lpwstr>
  </property>
</Properties>
</file>